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3BD-ED97-43F6-B45F-9BD160CF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E2E-41D5-4983-A0AF-61272B38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D5E-281D-43C8-BCEC-6321186E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1A2-8B59-4452-A65E-97EF3339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6ED-29D9-4B93-90A8-8584CB0F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6E6-DBDC-4C43-ABDA-B9AC7779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D46-AAEC-46C1-ACB5-0B49AF65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50C-B364-446A-8D2F-A01C28F9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DFB-4D08-4557-BA35-327C68DB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71F-1AC7-421B-AAE6-4198F6FB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C5B-92BD-4FA9-99B1-0C71165A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FCD-CFE8-434D-8EBC-BADE6E49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3444-26E9-4B08-9FB3-EC8F354C7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9520" y="457200"/>
            <a:ext cx="6269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stomary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85560" y="433224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inition of Capa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“stuff” can fit into containers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mount of space there is to fill them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371600" cy="1352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1523880"/>
            <a:ext cx="15526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124440" cy="365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8320" y="4572000"/>
            <a:ext cx="724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)  What unit of capac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 we use to buy mi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86800" y="244440"/>
            <a:ext cx="837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)  What unit would you use if you w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measure the amount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is fish ta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603520" cy="2425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62240" y="1371600"/>
            <a:ext cx="494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.)  What are th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in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ing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5904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64440" cy="4724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600" y="304920"/>
            <a:ext cx="89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.)  How would we measure the am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water this truck is carry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248160" cy="5410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9680" y="195120"/>
            <a:ext cx="77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.)  How are we going to meas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size of ice cre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105520" cy="4572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00" y="222120"/>
            <a:ext cx="8268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nus:  Can you name the unit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ement hospit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to hold bl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238800" cy="5162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48400" y="152280"/>
            <a:ext cx="641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’s a different vers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f the Gallon Gu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419360" cy="388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7840" y="0"/>
            <a:ext cx="797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nowing how to measure is 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ant skill.  In some ways 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kind of a balancing a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83040" y="3048120"/>
            <a:ext cx="42609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gratulation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have 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ished the quiz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ep your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your clipboar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94360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63120" y="396720"/>
            <a:ext cx="80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Gigantic “G”  It can hold everyt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1360" y="685800"/>
            <a:ext cx="88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)  What unit of capacity best fit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858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114800" cy="4724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7560" y="380880"/>
            <a:ext cx="68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)  What unit would this oil b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d 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647712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2560" y="533520"/>
            <a:ext cx="876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)  What unit do we use to measure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ount of gas we put into c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77120" cy="5334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4480" y="423720"/>
            <a:ext cx="85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)  What is this Gigantic “G” mis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54380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22920" y="152280"/>
            <a:ext cx="667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)  Does anybody know wh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we us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l strawberries 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2847960" cy="2495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86200" y="3429000"/>
            <a:ext cx="4648320" cy="3124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0360" y="685800"/>
            <a:ext cx="814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.)  How about what we mea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gurt and everybody’s favo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e cream (the smaller ice crea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z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610160" cy="5092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1160" y="228600"/>
            <a:ext cx="90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)  What about these large paint j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size jar to you think the paint is 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00:24:59Z</dcterms:created>
  <dc:creator>Rutherford County Schools</dc:creator>
  <dc:description/>
  <dc:language>en-US</dc:language>
  <cp:lastModifiedBy>Rutherford County Schools</cp:lastModifiedBy>
  <dcterms:modified xsi:type="dcterms:W3CDTF">2007-03-07T19:48:19Z</dcterms:modified>
  <cp:revision>6</cp:revision>
  <dc:subject/>
  <dc:title>Slide 1</dc:title>
</cp:coreProperties>
</file>